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235B-8904-42BE-A2DB-233D47C5C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4C3-07C5-4E77-B886-DFA1C1328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72B97-F20A-423A-99CB-57DA47EE8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A9D1-6F42-4E56-AF2C-E924BA0D4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B1AB9-CE17-4AE7-A1BF-18223988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996C-7A1D-43D6-BD6C-501478368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DD54-E6DA-4A5E-B5C8-8E10EC05F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C7FB-F503-45E5-A799-4AF60BC9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1547-A1E8-4220-9A27-EB2F8A1B8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B1EA-1541-4595-A8B3-84E2419B0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957A7-77A7-4C0B-9FDD-6A9DF751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8B6B-2B1B-4938-88AC-3E18E3B1B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FD03-C650-4706-BBB9-D837027E1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10FB-078B-427B-B7FC-7C9E1FF4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091B-A626-46E8-BC5E-DB73A65EB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004DC-0EB1-470B-B370-20F509C56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7BDB7-241E-4C8C-BB51-8DCFCB367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103B3-D1F7-424A-9599-977289E7E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C23E-BDE1-4140-81D4-D3B13CBD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C5468-1BF5-4F8B-82A4-119F24483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47C04-D6DF-419B-90EB-468E5FFB6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95E6A-6A36-4B15-AD38-F6BB1D66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513D-6384-4461-91F9-97AD1E2C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C9E59-5E02-4B5F-ACA3-AB3E96BAA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5EA427-8A6C-4098-B266-8192DFF2C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3EEE3D-CA3F-4159-9596-1D96FA2C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42868-627B-4506-9779-B15EB232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D9CF6-2958-4D40-8705-EE683B3F2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A4253-D715-409C-BE99-199B395BA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71951-90DE-4214-AA57-87667D786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53003-98AF-4743-8993-4DEBD0BA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5D8E2-C70C-4961-A335-63EB32AB4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42E94D-4AD1-44B8-BDA5-FE0D4D8E1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F44C-9888-4791-BC7E-DFE7CE665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580A1-F00A-4EAF-9108-BB23758A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49F75-1D0E-4A75-BC5A-4CCB16D8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C3C4D9-5E18-4274-B703-479EDF55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4BC69F-1A9C-454B-AA84-A0F0CBF43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CA47F-6116-459F-963D-2AA8A431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454BC-49C6-430F-9743-1F7C418B5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4F37F-12D2-4C4B-8404-7D9EA82B9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59A1B-0816-441F-ABB9-2AA290E46E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9DFE0-0979-44AE-BBBC-46B7364D4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8CF226-B904-43E7-81FA-07F888BA4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EB04-4084-4F72-AE43-4599767CF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8FED5B-B52B-4432-8061-1B7BD997E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43040-F1AB-492A-8B75-C9BE4F22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2DC602-4DA0-4053-9F5F-5EE339FA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174169-898B-425E-98D0-C17E9D16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D6A961-C75F-44C6-AFAF-54A2E95EF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C61FB-A5B6-4C09-99A5-BD8BA3CDB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102BA-46D3-4404-9A5F-7106860AA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84D603-63DA-4FF2-A0B0-BD46A525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0E3712-B96B-4B25-AB65-1355DEAD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A6DE4-A88E-41E0-8DEB-1B2E2D9EB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F067-6333-4049-A410-43099C4C1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78F3E-2524-4C3F-B0E2-18D966160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B37F0-AEF2-42C2-AB62-81CA8367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90F682-AC5F-4E0F-B69B-C7A2CD677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70FF0E-2F84-4908-98FD-A533C9F83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86B88-73DD-4B7A-BC40-8B4B629DA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57E809-EAA0-42EC-9438-B591FAFE3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22B75-6AFB-4A72-8075-6434F21F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0B7756-EDC4-4159-ACD1-943FCD7FC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E5769-1A90-4E27-81A3-44A237781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AF948E-3961-4805-A457-80158FF9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8A73-E074-4855-BFE5-1AFDA0062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3C249-3517-44A8-A154-04D5B7F26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C4C6D-1F83-4788-928A-410EF3A3E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BD669-0EF7-469F-9DB5-C3EE4A5EC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C45DD-7683-4156-A456-04F90DC4B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1E47D-E209-4766-8771-900496FC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93F828-1717-44ED-8D01-97D78A31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99E92E-25B8-43C8-BCE3-CA51782DC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8C98D7-378C-4445-98EB-A150CCC20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D8BD5D-E62F-4604-92E0-FD322E49B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F2BEE7-74A3-45F4-9C36-CF2F478ED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1373-1AE5-4BF1-B07F-4AE1DC0D2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81F612-8AE4-432B-8E66-D3A877B8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F9C6B-0A69-4EEB-B9A9-200C883E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B51BC-E628-4B5C-B289-0D8E15EC6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3341D-3E6D-4DEC-8F0B-AAC5C6EB8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77547-02C8-4F43-A665-7CB3C1327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BBEE6-CDAC-4E9B-8BB0-952C0E9FD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8CDD33-ACFF-41BE-B377-045691FD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0D316-B5FF-431E-9CE6-AA172CFC8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73FA7-BDBB-4F2A-A7E9-A084BB2E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D6C8F6-F463-49D0-8CDB-987A511F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8FD9D-A870-4F69-86BC-437A928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3E037B-2045-4358-A71F-D1BB5935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42915-F051-4FDC-9DAF-D481C697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B26640-199E-4B01-B050-9472C8F2B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10BBB4-8FF7-4592-A6AA-1D0B4302E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30916-0B6F-46C7-A1F9-A56818F64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4B4A0D-42C0-42EF-A929-FFA8308FF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B75F2-C7BF-45EB-8AE5-A5682B55A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8163E-2890-46F1-B1A9-91FD1888CA1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B11A2-CB2C-4204-9A2B-04CE9092D2F8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D8F1-B314-4A46-84AD-579643F0BA1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EC1DE-1E55-4A01-BED7-401BE2B850C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A56BB-5387-4E6B-888C-39327BFF9DC7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9D06B-ABA2-4F78-A3EE-474C32BB0E2D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3AB3-DFE3-4C52-98F1-D5BDF3F32AC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120F-FDEF-48E2-BC75-76CD7465839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¡AY,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595959"/>
                </a:solidFill>
                <a:latin typeface="Garamond"/>
              </a:rPr>
              <a:t>Juego para 1.1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(vecin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ere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ecin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3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 (muchacha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y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muchacha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7" dur="2000"/>
                                        <p:tgtEl>
                                          <p:spTgt spid="3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osotros (doctor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Vosotros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i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octores. 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GUST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: bailar (n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N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te gusta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ilar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" dur="500"/>
                                        <p:tgtEl>
                                          <p:spTgt spid="3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¡AY,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aramond"/>
              </a:rPr>
              <a:t>Steal other team’s points!!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GUST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Yo: trabajar (sí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Me gusta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rabaja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GUST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lla: Cantar (n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lla n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le gusta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anta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1" dur="200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GUSTA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ra. Swift: leer (sí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a Sra. Swift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le gusta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eer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Ana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Ella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Francisco y yo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Nosotros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" dur="5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92350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ra. McDonald y Sra. Anderson (maestra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923508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La Sra. McDonald y la Sra. Anderson son maestr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8093664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Alma y tú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  <a:p>
            <a:pPr indent="80936640">
              <a:lnSpc>
                <a:spcPct val="150000"/>
              </a:lnSpc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Ustedes (Uds.) 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or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vosotros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3" dur="2000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¡AY,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11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Steal other team’s points!!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Julia y Marta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Ellas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¡AY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teal other team’s points!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ACTICE WITH SUBJECT PRONOUNS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Garamond"/>
              </a:rPr>
              <a:t>Mi maestro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  <a:p>
            <a:pPr indent="59146200">
              <a:lnSpc>
                <a:spcPct val="150000"/>
              </a:lnSpc>
              <a:spcBef>
                <a:spcPts val="134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0000"/>
                </a:solidFill>
                <a:latin typeface="Garamond"/>
              </a:rPr>
              <a:t>Él</a:t>
            </a:r>
            <a:endParaRPr b="0" lang="en-US" sz="5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500"/>
                                        <p:tgtEl>
                                          <p:spTgt spid="3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y un chico (vecino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y un chic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n o sois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vecino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" dur="500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975391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a muchacha y yo (estudiante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975391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a muchacha y y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mo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studiante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a mujer y un hombre (amigo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na mujer y un hombre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migo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y yo (policía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Tú y yo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mo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licí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3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aramond"/>
              </a:rPr>
              <a:t>¡AY, CARAMBA!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Steal other team’s points!! </a:t>
            </a:r>
            <a:endParaRPr b="0" lang="en-US" sz="4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is Hilton y Lindsey Lohan (amigas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9442620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aris Hilton y Lindsey Lohan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son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migas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1" dur="500"/>
                                        <p:tgtEl>
                                          <p:spTgt spid="3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ted (maestro)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Usted </a:t>
            </a:r>
            <a:r>
              <a:rPr b="0" lang="en-US" sz="2800" spc="-1" strike="noStrike">
                <a:solidFill>
                  <a:srgbClr val="ff0000"/>
                </a:solidFill>
                <a:latin typeface="Garamond"/>
              </a:rPr>
              <a:t>es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aestro.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PRACTICE WITH SER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6T13:31:20Z</dcterms:created>
  <dc:creator>Prine, Stephanie</dc:creator>
  <dc:description/>
  <dc:language>en-US</dc:language>
  <cp:lastModifiedBy>Prine, Stephanie</cp:lastModifiedBy>
  <dcterms:modified xsi:type="dcterms:W3CDTF">2013-09-26T15:22:39Z</dcterms:modified>
  <cp:revision>9</cp:revision>
  <dc:subject/>
  <dc:title>¡Ay, caramba!</dc:title>
</cp:coreProperties>
</file>